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C58-E2C7-4416-A3E2-851C85B5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D39-AF5C-49C5-97BA-C34FD566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0C4-3185-47AB-80EE-9F4EB780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C49-67B4-48CB-B1B4-DDC92F07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656-6B9B-43F3-83DD-B8CB84F3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201-240E-4EE8-8728-D6F787D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997-01AE-42EF-AD82-0E9530CD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B44-E7D3-4FBB-8E36-4043A46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54E-44D8-4EBF-A151-80A25E41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DB5-8066-4B87-8294-99FBA991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BB5-DF9C-423F-804B-62864FFF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913-D8C7-4C0D-995F-65A4EF2C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A028-6AC8-4564-AD3D-0C4505CC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for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hort Stu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081-B3BA-4CFB-9BD6-66177531989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C5A-931C-4C0E-90D9-C7D7736611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hi Square Test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F09-0EEF-4820-A601-0EC95BF2D7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29400" y="5181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72560" y="53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467480" y="5257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391520" y="5105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35D-22A8-42F3-ABDD-E459CF99C2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81680" y="541008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A3B-9A7C-4007-A3AD-7D5E72989A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16256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E92-D67F-4083-80DE-DA4080FB8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BDC-9FF6-4561-9F01-EC0D5B32AE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D18-471A-46AC-9D99-3FA902EE7C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60282" r="0" b="0"/>
          <a:stretch/>
        </p:blipFill>
        <p:spPr>
          <a:xfrm>
            <a:off x="685800" y="4343400"/>
            <a:ext cx="7696080" cy="220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388620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i square test should be significant because Z test is significa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3280" y="4876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14" r="0" b="39733"/>
          <a:stretch/>
        </p:blipFill>
        <p:spPr>
          <a:xfrm>
            <a:off x="685800" y="380880"/>
            <a:ext cx="7772400" cy="3353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46540" t="89050" r="45552" b="0"/>
          <a:stretch/>
        </p:blipFill>
        <p:spPr>
          <a:xfrm>
            <a:off x="5105520" y="48769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FFE-38F3-42BC-BC5E-0375FB79E2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914400"/>
            <a:ext cx="457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But there is a problem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105520"/>
            <a:ext cx="77882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values of a chi square statistic that might indica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result can occur from either large positiv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negative values of the normal statistic</a:t>
            </a: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28287" t="22224" r="44451" b="61910"/>
          <a:stretch/>
        </p:blipFill>
        <p:spPr>
          <a:xfrm>
            <a:off x="4343400" y="3733920"/>
            <a:ext cx="2057400" cy="761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00800" y="3657600"/>
            <a:ext cx="12193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383-E17C-4327-B59B-AE1E1D5F84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5715000"/>
            <a:ext cx="7086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way  to compute P-value:   Use Z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E0E-16F0-4FE2-916F-27DAB492B0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Z Test for RR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rom 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hort Stud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396-C5B1-49E0-A1E9-AFFA9CBFDB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5181480"/>
            <a:ext cx="746748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 way to compute P value: Divide the area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ail of the chi square distribution in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CCE-4E62-4677-8791-B4BB38DFC1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9865" r="0" b="0"/>
          <a:stretch/>
        </p:blipFill>
        <p:spPr>
          <a:xfrm>
            <a:off x="838080" y="1219320"/>
            <a:ext cx="7620120" cy="487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2040" y="1176480"/>
            <a:ext cx="543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Symbol"/>
                <a:ea typeface="Symbol"/>
              </a:rPr>
              <a:t>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6858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Two-si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31005" b="90149"/>
          <a:stretch/>
        </p:blipFill>
        <p:spPr>
          <a:xfrm>
            <a:off x="838080" y="685800"/>
            <a:ext cx="525780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19920" y="68580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87A-D2FE-4331-B343-D49C46ED26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1828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One-si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725-1EB4-4296-90D4-A3E78D5558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F64-FB87-4952-8D85-D36DBC753C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BC3-8B93-45FE-AB6F-3885A68E1E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isher’s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xact Test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AE7-C6A0-43B3-8714-3C7E992A76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4496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754380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1DD-E4A9-48CE-9FB0-4ED8C5DA6C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7543800" cy="11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D58-0E08-4FF1-A8B6-1F35A60227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004-AD0E-4194-A035-823A86BABE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8720" y="5257800"/>
            <a:ext cx="73695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know the frequency in the a-cell you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the frequencies in the other 3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6D8-9FF3-4DAB-9325-FA1EC41B06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B96-1677-495B-A143-A6E91CDF66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50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180-64AF-404C-AD88-B95834412F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C92-1B88-4D68-AFB1-A5D83BD0A3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627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If y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4D5-1717-46B8-9CFE-61E5535EBE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9BB-D87F-41AF-855F-7CA078B557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7C9-4C8C-415F-98A5-3F19091B69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218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892-0342-46EB-9D7C-50B58919A4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699-85F0-4FBB-B2AA-6E545262AF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Mantel-Haenszel Test-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 Version of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isher’s Exact T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B07-47C1-4CD0-BED5-4A188C8B69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267080" cy="83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638680" y="3962520"/>
            <a:ext cx="205740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447920" y="4724280"/>
            <a:ext cx="46980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7238880" y="4724280"/>
            <a:ext cx="4572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B8E-E866-418D-8A20-E96E82597E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808200"/>
            <a:ext cx="685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8FA-8B9B-47AC-8E9C-C9DA565C86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77240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266724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DEB-6FA3-4D18-83D2-33DA14EE2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351000"/>
            <a:ext cx="7238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160020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CDE-847A-438B-88A6-F1653021E0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A0B-0F94-443C-ADE8-D35EEF7B71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523-59AE-45FC-9C83-0DFAFA06AB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DA6-ADAD-4F8F-AC86-B5617CB729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86400" y="4876920"/>
            <a:ext cx="2895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(Previous 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Sample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1DA-D72F-451A-AEDD-3FEF739004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AEE-D25D-4B56-8FE2-FA175BAAAD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D80-93B7-4D76-BB85-2DE5B1CC3F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5FE-17EC-402C-98EA-24B718FD35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DC1-932B-48DA-8CEE-C3157E1F79E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11F-E263-4F54-B0F0-EEA8DE1FB34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CE8-05AB-491F-8B45-393CEA682B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3E0-FF99-4F09-B52D-2A43FCD72D1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622600"/>
            <a:ext cx="7543800" cy="2940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980-CE4D-4E49-801E-5C5215A7934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9644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7696440" cy="1676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228600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396252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533-5E92-47AB-9578-4BB8D0171C8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533-BC91-4A81-9BB4-B9D4BC4EEC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6F4-B6CD-485B-9F0B-E86F6D0E288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2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62560" cy="24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F71-29AF-4A39-A42C-0C5AD4484C3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55308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56C-C63C-48B3-9668-4A2C54B61EF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620120" cy="152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761976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8AC-DE0D-4713-9890-0CE85D5AD66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177-D7BB-4564-BF35-BE9008E8709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CB4-8CE6-4719-9700-6990F1C0B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336920" y="3200400"/>
            <a:ext cx="41212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267080" y="3886200"/>
            <a:ext cx="30492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381880" y="533520"/>
            <a:ext cx="4572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914400" y="4419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1F4-6468-4698-9922-1D8544FD95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3600" cy="316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1187280"/>
            <a:ext cx="5943600" cy="8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0CA-525A-41E1-AF8A-B8555A7B54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E02-E4AC-47F4-B5BA-B92DA03CE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20:07:00Z</dcterms:modified>
  <cp:revision>197</cp:revision>
  <dc:subject/>
  <dc:title>Slide 1</dc:title>
</cp:coreProperties>
</file>